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D34A-29D8-4997-9256-0D989978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C879-E090-4DBB-A2F3-F5990AD3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2B3E-2209-4156-AF0C-FB53E4FE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BF9E-B64E-489D-85DD-BB75B9EA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23E8-DA76-4514-AD31-98704C3A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145A-E884-4B29-B497-507E56F1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8E9B-1B62-4766-B7F4-70B1B81F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2472-2D78-4A99-A67F-74704A44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80A4-E4D5-4A45-9ADE-E6A9E481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9C86-30B8-48B0-A33F-C32129BF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DDB0-CDE1-4F3C-BBA4-5732166C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69C6-81DD-447D-BB0D-4EDC3031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8EE1-1D9E-4730-A4EF-E538C4BC0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XXX XXXX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es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---</cp:lastModifiedBy>
  <dcterms:modified xsi:type="dcterms:W3CDTF">2008-12-17T10:52:14Z</dcterms:modified>
  <cp:revision>6</cp:revision>
  <dc:subject/>
  <dc:title>Diapositiva 1</dc:title>
</cp:coreProperties>
</file>